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5E9-B955-4791-A7AE-3048B6A0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3D3-1319-4D9A-8986-60B76B1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AE0-87F7-4DBE-97A9-2E9B475E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8FF-C581-45F3-962C-0947B479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88D-1B4C-48C7-B44A-46C4DAE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056-3D78-45DE-A971-2EEF763E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FD2-EC61-4D1E-BE16-6003BF1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B66-403B-4AE5-B920-F927384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722-DD78-4773-8D5B-3C24BE8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892-654B-4B79-AE3D-127EB67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AFE-CE3D-437F-AFD9-582FD69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3EB-9BC0-4F9E-82AA-9E3FCD5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F191-74D5-4FBD-B597-AAACECE6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 Day Russ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gdalena, Jennifer, and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polluted the air, water, and 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some pictures showing these environmental problems in Russ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’s pollution also has caused rising cancer and falling life expectancy in the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most people are suffering from lung diseases. This shows that Russia’s population is becoming less healt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Things About Present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has followed the United State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37:52Z</dcterms:created>
  <dc:creator> </dc:creator>
  <dc:description/>
  <dc:language>en-US</dc:language>
  <cp:lastModifiedBy> </cp:lastModifiedBy>
  <dcterms:modified xsi:type="dcterms:W3CDTF">2010-12-14T14:00:20Z</dcterms:modified>
  <cp:revision>4</cp:revision>
  <dc:subject/>
  <dc:title>Present Day Russia</dc:title>
</cp:coreProperties>
</file>